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D443-C7EA-4DCD-9712-D6276B778F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146D0-0279-44A0-9A04-6F836B2E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5F2E-0156-4353-A279-1D7B6612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0358-80EE-4F9F-AC4C-5B1124F022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3985-8953-4A42-A171-FE318216C4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92F4-9224-4358-A114-21047BF6FE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5040-5D65-425C-8302-4D35E9089B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8D37-8312-4B5D-86CE-130DF414B5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448-70C3-4EFC-AED7-6AFBA13E28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0FD7-8496-4DE2-85EE-C971755081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941-4561-4F19-A920-5C06F192AE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77FE8-8C57-49B6-A88D-3912A27B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06C6-E275-4971-ACFC-949CBCAF8A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F5A-0CDE-4E70-B771-EC2801F22E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C946-7EC9-4915-8E17-6FA19F65EB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0FD6-AAD9-465E-B62E-AD824B0939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79F1-3BAB-4586-A266-4F690ED858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89F6E-062F-42A1-8BC9-10D9303D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2070-F9E0-4655-802A-A60A490E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51246-20AD-4C69-91D1-1F16AD63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59627-E55E-4FAE-9083-7CEBCA97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CB6D-3DEA-4202-B5CE-AF2DB9B7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35C3D-9D85-4346-9710-DEF27213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39FC-DF86-43D7-875F-DF6A4486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19223215-5CB1-4690-A21F-8E500371738F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pril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271160"/>
            <a:ext cx="4114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ldNum" idx="3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59C49152-F941-4937-A54E-613F76C992FD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1271520"/>
            <a:ext cx="411480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Agilent</a:t>
            </a:r>
            <a:br>
              <a:rPr sz="2800"/>
            </a:b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riple Play Analy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278000"/>
            <a:ext cx="41148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to quickly solve problems in today’s complex Triple Play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171960" cy="320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495680" y="4572000"/>
            <a:ext cx="4191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riple Play General 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ere to Test???? </a:t>
            </a:r>
            <a:br>
              <a:rPr sz="3200"/>
            </a:b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 Interfaces per location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Encoder Ethern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0/1000mb Copper or Fib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DNA \ DNA 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\Post A server Ethern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00mb Copper or Fib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DNA \ DNA 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\Post D server Ethern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00mb Copper or Fib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DNA \ DNA 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Convergence Ethern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00mb Copper or Fib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DNA \ DNA 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6520" y="1266480"/>
            <a:ext cx="42688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mis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RG Ethern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0/1000mb Copp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NA \ DNA PRO) (MOCA, HPNA, etc. Agilent does not have an inter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ite, HDMI, S-Video (No Agilent Inter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Where to Test????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Where to Test???? </a:t>
            </a:r>
            <a:br>
              <a:rPr sz="2800"/>
            </a:b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The “Pain Points!” is where you should start……</a:t>
            </a:r>
            <a:endParaRPr b="1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rovider has several different teams that are responsible for different areas in the Network.  You must determine what is the “Pain Point!” for the team you are working wi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a SHO Engineer who is responsible for the Encoder banks ‘cares’ about the STB performance but do they loose sleep over it?  NO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each member on the team what the pain point is, they will all most likely state the same issue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ere to Test???? </a:t>
            </a:r>
            <a:br>
              <a:rPr sz="3200"/>
            </a:b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“Pain Points”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i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ders, Encoders, Encoder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est points: Egress of the En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uffing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R Jitter (Lip-Sy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Just D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EG-TS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P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rvers (MST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est points: Ingress\Egress of the A Serv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val of Stuff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P Sequencing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 Performance itse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Ji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6520" y="1266480"/>
            <a:ext cx="42688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 Sp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est points: Ingress\Egress of the Ad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lice Point 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 server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ction of the Ad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ere to Test???? </a:t>
            </a:r>
            <a:br>
              <a:rPr sz="3200"/>
            </a:b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 “Pain Points”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(Transport Network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in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est points for the co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gress and Egress of the Transport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G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ols to mea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M equip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\DS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ing correc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OS is setup correc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6520" y="1266480"/>
            <a:ext cx="42688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ct ones are bui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OS is setup correc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 Tu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they hauling the traffic back to a NOC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ere to Test???? </a:t>
            </a:r>
            <a:br>
              <a:rPr sz="3200"/>
            </a:b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 “Pain Points”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O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i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 Encoders, Encoders, Encoder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est points: Egress of the En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uffing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R Jitter (Lip-Sy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Just D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EG-TS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P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 A servers (MST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est points: Ingress\Egress of the A Serv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val of Stuff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P Sequencing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 Performance itse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Ji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6520" y="1266480"/>
            <a:ext cx="42688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 Ad Sp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est points: Ingress\Egress of the Ad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lice Point 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 server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ction of the Ad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tion of Internet\Vo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est points: B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Conve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LAN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ere to Test???? </a:t>
            </a:r>
            <a:br>
              <a:rPr sz="3200"/>
            </a:b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 “Pain Points”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in Point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D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est points: Ingress\Egress of the VOD 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ing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cation of Service\Bi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6520" y="1266480"/>
            <a:ext cx="42688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ere to Test???? </a:t>
            </a:r>
            <a:br>
              <a:rPr sz="3200"/>
            </a:b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 “Pain Points”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mise (Last Mile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in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ential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est points: On the 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R Jitter (Lip-Sy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P QOS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est points: In-line between the RG and the S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ap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ap Overrun and Under r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oE (consistent ZAP responses) Not Q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6520" y="1266480"/>
            <a:ext cx="42688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ere to Test???? </a:t>
            </a:r>
            <a:br>
              <a:rPr sz="3200"/>
            </a:b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 Interfaces per location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Encoder ASI (No Agilent Inter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Encoder Ethern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0/1000mb Copper or Fib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DNA \ DNA 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\Post A server Ethern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00mb Copper or Fib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DNA \ DNA 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\Post Core Ethernet \ Son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0/1000mb Fib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DNA \ DNA 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6520" y="1266480"/>
            <a:ext cx="42688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 Networ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Ethernet \ Son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00mb OC-3 Fib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DNA \ DNA 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Gig is under Development (Not a LIM PC Based sol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MPLS\GRE\VLAN To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4:42:10Z</dcterms:created>
  <dc:creator>Michael Stevens</dc:creator>
  <dc:description/>
  <dc:language>en-US</dc:language>
  <cp:lastModifiedBy>Michael Stevens</cp:lastModifiedBy>
  <dcterms:modified xsi:type="dcterms:W3CDTF">2007-06-07T13:38:32Z</dcterms:modified>
  <cp:revision>12</cp:revision>
  <dc:subject/>
  <dc:title>Slide 1</dc:title>
</cp:coreProperties>
</file>